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55666"/>
        <c:axId val="3223865"/>
      </c:barChart>
      <c:catAx>
        <c:axId val="52855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865"/>
        <c:crosses val="autoZero"/>
        <c:auto val="1"/>
        <c:lblAlgn val="ctr"/>
        <c:lblOffset val="100"/>
        <c:noMultiLvlLbl val="0"/>
      </c:catAx>
      <c:valAx>
        <c:axId val="3223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55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D7B-B478-4495-A755-A82A93B6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0A2-7B3C-4137-9145-72519003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4C0-57B7-4A7A-887A-9AC95923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C1B-15AD-4B21-A631-0A14AF6A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97A-CBF0-437B-8D66-742C8F60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8DD-E879-40DD-90F0-B6ECBC43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2D9-2FA7-46A8-ACC6-0E103385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7FB-7EA1-44E7-9CF3-35E5051F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181-282D-4E56-907C-76486D8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0EF-E030-48C8-B331-039ADBB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DFE-8A38-4F30-B5E5-533E80B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D9D-816C-4C89-8DC3-67911BE8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552D8-00F2-4721-8591-EF2D8A6AC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